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806C-87AA-4703-979D-5D700F4C73A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123C4-2BE5-4559-8E22-583CFD3DA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EDF5-6332-4625-A5B5-CD66F78C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A06267-FCBD-4780-8D97-61628DD8A1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52B713-0361-46FD-A620-E922E895C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12945-4743-41E5-A984-A38A10ED7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DDDE2-3753-4A54-9196-E069BD848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54D57-B5C8-4A78-AB8B-8C55EC35E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7E1B7-213D-43F6-9865-5E1257D83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B7A46D-BC18-484F-AA74-2182D5FDC3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124D8F-EE34-4CA4-8563-3E29682788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23EA53-38AC-45C6-94D5-235E54690B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617F7C-0EFB-4360-A304-A99A4212A8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21FC8-B59D-4363-A681-9C8C6B40B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80AABA-6492-46ED-B865-69C221322D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B49E39-4F25-447E-B567-DC24DF3940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1579B3-60DC-4D4C-85A2-02CFC1D48C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C90BD7-0110-45F9-AC99-EDCDA25DB4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58F8E5-2B08-4459-9F8A-DD121CF9B5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09A4FE-7AAB-45BE-B56C-B59B103DD8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289F74-6093-4557-AFE1-C31397D709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4B75D8-C081-4C7E-BE96-4A41E9E8A8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82F66E-7FE1-4A28-8901-D33B84967A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685652-D430-4C5E-89F1-3397602377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CC236-6BE9-4FC8-80D3-6CE12AD7A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3954CC-4658-409A-9CA7-47C7F37086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4CE13-D570-475B-B022-146D90788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CD97B-BE1A-4523-9553-E96B60A32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788EA-129C-47D8-AF92-A79243D8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50602-7FFB-40D7-B205-C5CE785BD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E1829-EA05-4BD3-90C6-C58E1514F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056D3-E9E2-4131-8919-458223797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ED983-1BBD-43FF-B8C8-D9A896B7F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F16A0-1AC9-41D9-9B62-F53670BBD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A57BA-4B79-4100-8569-DDB5239D1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9907C-08AD-4C06-ADF1-2DF4F714D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CDE68-5FC3-4FCA-8978-4E2A3741C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FC05E-3EFE-422B-83E4-886BC54A8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08D96-7C6A-4ED7-836B-2FCE61986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8AD2E3-294F-4699-BAC3-0F30004A8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DA8AD-7CCB-47C9-B0EB-C05D373F9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5DFA6-B102-4F6D-B79F-40B2F0A12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B5120-754E-441D-8CF5-BF5A21508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65EE7-8541-42EA-98FD-E8DF7A3F0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2150D-5292-4352-AD06-AB86082BE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E03F8-DCA5-4F45-A2AC-CB1CDBAAFC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73587-6DFB-4956-B6C6-4F2984424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07CBB-9F5C-4B5F-BA52-8DF5A4B66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667FA-D9AB-47CB-BEA6-AA643367C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33D65-42C1-4A37-A49E-C05572ACB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8A301-C0A1-49DF-A9C9-A938B3AEC3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FDA09-ED65-473D-AA1D-D282398A90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5B5E5E-EA1A-4501-8726-728217A16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5FE11-BCC9-407E-AB6A-3CDE4DA15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C34BC-51CB-40E3-9BA3-6ED47916B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19A28-EE81-40F5-9CA3-D72261797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7C31B-49C7-4286-8567-17ED16CF2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463C6-1CA6-403A-8717-4A9CE2FE5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5D8B0-A0DC-495C-B447-E9451FE26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57E3D-6002-486D-922D-41F7A0BE1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66A88-C2CF-48D2-8F67-4285B15FB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EE01B-4437-49AE-86D9-761EC12D2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E6ECE-561A-4472-8765-70AA2B119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2EB077-559C-413E-81D7-C77685718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51C01-1328-4097-8056-7B3488DA8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6BFE0-5F1A-4AC8-BEDB-8C7816BAB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7CB21-1A33-485D-AC04-8A2B7866F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A5866-50E5-4E9F-8065-2F06FE7E4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05478-676C-494E-8358-37F29D0FE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C4EAC-F77E-45F9-A213-3A4DA7E69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6C9A2-6BB7-4510-BC5F-09B2FD30A8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6DCE0-7B9A-4B4A-84C2-9C4EC6854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06A7C-E640-4757-ACD9-9405642CA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A217B-8393-4F18-BB5C-2E0DD16B30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7700F-756A-46D6-BA75-BB95AD28D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8F3B0-63C3-4933-928A-6D5F952BE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07127E-0B27-4AE0-9FA7-669EFC06C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24EF4-5334-4EDB-B56F-418A96586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556C1A-148A-422E-B315-2B776A33CE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716728-0BD3-47F0-9379-703DF2BC4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D85BC-9EE2-40CC-B648-A5DFC61B7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C8058-D4C7-4B54-9A94-D021CEDA1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7B3D7-A583-4062-961D-CE7DB416DF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C1824-2711-4903-B6E7-D9A79624B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9A9CD6-21DF-4DD9-BFC5-A058DA0C7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8A3D0-EC0F-4061-930E-05C1724D7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5D643-F158-4006-A6C0-FF7C092AF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2A1A5-EED7-4316-97F9-3C2D12B10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A570A-9EB5-43D5-9AD7-6C5466D4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CB33B-32AD-435D-904F-AAB17912F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18F9D-4654-4182-8179-FA6B14DA7D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156105-769D-40B2-8AC8-1D20191DE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A973CD-F158-46F1-8BBF-466A7F6798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7ABFF-18B8-44AF-BC80-4E4EA76E80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C5FF46-5D57-47E5-BB4A-D86EBEB7D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BE2DA6-730B-4AA5-80B0-626D118448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CBF10B-3FD0-4B6F-8213-E1764F6B3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F1B94-CC4C-48D8-9174-C02E1BB7A2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AACB2-5EFE-4A94-AD91-B214EDA80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A770-CD20-4CA2-9D37-C2A02559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4DA91-3131-482B-9085-321C90C46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D3418-A1B9-422C-BA1C-7C5C19666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44D25-419E-4939-A8EC-A0266C2A7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329AA-6ACC-4E61-A492-500391E0F8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045E7-F101-43B3-90DA-FCC62006BF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DD1948-ACB3-4965-AEEE-816B6DB359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D0C27-3372-405E-9113-110294D88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CC3A9F-815E-446A-9E6B-84A34414C8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71CE3-591D-4475-A25C-B3230A4BC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301E4-5014-4208-A3AF-0E5B709C9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B0DE-6779-4356-9A8D-F1ED0A434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E083CF-ABEE-49D7-BB84-37701E3F4C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54F18-D31B-4E1E-8ED2-F8D7BADFA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080B7-B1BA-4AE3-A741-1A3EBC042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7DE54-FB4B-47C8-87B8-487113C08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9853C2-BB3B-4B93-9FB0-021481331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825789-DDB2-4F56-B362-EB40AC3770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A2F58F-3EEF-4910-809A-E7CBEAFA21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0C97F5-276D-4997-BDD7-1AFEA0867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EAFE19-FAFE-49BC-BE79-FAC18730B6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8D563E-AFAC-4EDA-B7C6-630CF95063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480F-31CE-467C-BE24-1C784C552311}" type="datetime">
              <a:rPr b="0" lang="it-IT" sz="1200" spc="-1" strike="noStrike">
                <a:solidFill>
                  <a:srgbClr val="0d0d0d"/>
                </a:solidFill>
                <a:latin typeface="Bell MT"/>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63C2-AD93-4165-B967-A3536C7EDE64}"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6B4B-0E29-4A68-881A-51DA18C8688F}" type="datetime">
              <a:rPr b="0" lang="it-IT" sz="2400" spc="-1" strike="noStrike">
                <a:solidFill>
                  <a:srgbClr val="ffffff"/>
                </a:solidFill>
                <a:latin typeface="Bell MT"/>
              </a:rPr>
              <a:t>29/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FDD6-CC36-4A74-A7DD-ADB2007D4866}"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2642-CE98-497C-B3CB-58445ECC76D3}"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F8C9-2D58-4637-98D3-E7918038882D}"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05FE-E1EC-4EAE-9C49-976F883C5F7E}"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667E-0008-4F6F-A3F2-965EB070F2B6}"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E006-905E-40AA-AD00-F01B1C87E9BF}"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9FCA-ADF0-4138-8558-1212754FD066}"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4E8B-BA7F-4482-A8AB-61AFD7EF667D}" type="datetime">
              <a:rPr b="0" lang="it-IT" sz="1200" spc="-1" strike="noStrike">
                <a:solidFill>
                  <a:srgbClr val="ffffff"/>
                </a:solidFill>
                <a:latin typeface="Bell MT"/>
              </a:rPr>
              <a:t>29/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275-EA53-4220-ABE6-ADD7F9F38372}"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24E3-E4CE-4997-9DA7-0B0760095989}"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FB2D-2254-4EAC-9051-6145E899119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1DC8-951A-4B64-B82A-86BC31720D6F}"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AD6C-331D-4210-BF9A-95DAAC760D1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D248-AEAC-46A0-9C4D-EAAB25315DF3}"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8D29-BC05-4482-9E8C-7AFD0E80A04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F142-5CBA-4CC0-976E-DFE24060DE4B}" type="datetime">
              <a:rPr b="0" lang="it-IT" sz="2400" spc="-1" strike="noStrike">
                <a:solidFill>
                  <a:srgbClr val="0d0d0d"/>
                </a:solidFill>
                <a:latin typeface="Bell MT"/>
              </a:rPr>
              <a:t>29/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4511-6838-476C-8A7D-D8AE4BB4980E}"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